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2EE-1C3B-4EF1-8549-79C72834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EAC-D36E-426D-8C06-A0945B86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827-CB3B-42E3-9218-BEFD52EB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D2E-8C87-4E36-8BF1-372D109F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FB3A-959C-4610-8C32-DE39FCAE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C433-E12C-4699-AFC2-EF21BFE2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978-16EF-4B85-80DE-E4023E4B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0E0D-2E08-4E33-9046-C8D2215B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FD8F-6614-41BF-8850-5A567C1A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74A0-1DBB-49AD-95E6-8BD59E2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FA28-979E-4B86-93E2-9DCF0FA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F0B-1694-4999-B8B0-E3FA35E7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B695-095B-4E8A-845C-8E4E1864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8936-ED09-41BD-8148-4EEC1E8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E5A9-6C60-44C8-AAF2-0D747EB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AF59-4AA1-4972-9BF1-9E488733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3FB0-80C0-4F88-8278-5375FF7D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D39-2EED-4592-88C5-10A424A6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709-CB06-4903-95FE-515F0CD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1D5-E750-4DA0-BA6B-2B97F7E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20E-D83F-4928-BF5F-31A81195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E7B-07D8-4D64-AACB-7B764891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006-B86B-4BEF-84DD-43DD9F2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93A-1822-411F-A042-5EE535D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f09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4E4-F883-4645-A25D-B2F246FDEF88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09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B86-3835-45A0-B3D3-222940E439F2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The Casimir effect</a:t>
            </a:r>
            <a:br>
              <a:rPr sz="48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Physics 250 Spring 2006</a:t>
            </a:r>
            <a:br>
              <a:rPr sz="48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r Budker</a:t>
            </a:r>
            <a:br>
              <a:rPr sz="2000"/>
            </a:b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Eric Corsini</a:t>
            </a:r>
            <a:br>
              <a:rPr sz="2000"/>
            </a:br>
            <a:endParaRPr b="1" lang="en-US" sz="16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 Black"/>
              </a:rPr>
              <a:t>Casimi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 Black"/>
              </a:rPr>
              <a:t>Patron Saint of Poland and Lithuania </a:t>
            </a:r>
            <a:r>
              <a:rPr b="0" lang="en-US" sz="1400" spc="-1" strike="noStrike">
                <a:solidFill>
                  <a:srgbClr val="0033cc"/>
                </a:solidFill>
                <a:latin typeface="Arial Black"/>
              </a:rPr>
              <a:t>(March 4</a:t>
            </a:r>
            <a:r>
              <a:rPr b="0" lang="en-US" sz="1400" spc="-1" strike="noStrike" baseline="30000">
                <a:solidFill>
                  <a:srgbClr val="0033cc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33cc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2" name="" descr="slide number 027"/>
          <p:cNvPicPr/>
          <p:nvPr/>
        </p:nvPicPr>
        <p:blipFill>
          <a:blip r:embed="rId1"/>
          <a:srcRect l="60005" t="27555" r="3333" b="26666"/>
          <a:stretch/>
        </p:blipFill>
        <p:spPr>
          <a:xfrm>
            <a:off x="5486400" y="3962520"/>
            <a:ext cx="2514600" cy="2278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3520" y="3962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Hendrik Casimir (1909-2000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Dutch theoretical physicis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Predicted the “force from nowhere” in 1948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2171880" cy="2648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31240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teve Lamoreaux (University of Washington – Seattle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easured the Casimir force between a 4 cm diameter spherical lens and an optical quartz plate about 2.5 cm across, both coated with copper and gold. The lens and plate were connected to a torsion pendulum.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2982960" cy="4695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8108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teven Lamoreaux’ experimental set up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ere are only a few dozen published experimental measurements of the Casimir forc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ut there are more than 1000 theoretical paper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citations of Casimir’s 1948 paper are growing exponentiall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029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4076" t="11613" r="2717" b="0"/>
          <a:stretch/>
        </p:blipFill>
        <p:spPr>
          <a:xfrm>
            <a:off x="3962520" y="4114800"/>
            <a:ext cx="47037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Effects of edges</a:t>
            </a:r>
            <a:br>
              <a:rPr sz="4400"/>
            </a:br>
            <a:r>
              <a:rPr b="1" lang="en-US" sz="1800" spc="-1" strike="noStrike">
                <a:solidFill>
                  <a:srgbClr val="2f09d1"/>
                </a:solidFill>
                <a:latin typeface="Times New Roman"/>
              </a:rPr>
              <a:t>shape of decay function is strongly dependent on size and separation of surfaces</a:t>
            </a:r>
            <a:br>
              <a:rPr sz="1800"/>
            </a:br>
            <a:r>
              <a:rPr b="1" lang="en-US" sz="600" spc="-1" strike="noStrike">
                <a:solidFill>
                  <a:srgbClr val="2f09d1"/>
                </a:solidFill>
                <a:latin typeface="Times New Roman"/>
              </a:rPr>
              <a:t>ref:http://images.google.com/imgres?imgurl=http://www.sr.bham.ac.uk/yr4pasr/project/casimir/currentthumb.jpg&amp;imgrefurl=http://www.sr.bham.ac.uk/yr4pasr/project/casimir/&amp;h=275&amp;w=275&amp;sz=41&amp;tbnid=Buy2QDUNZEvi6M:&amp;tbnh=109&amp;tbnw=109&amp;hl=en&amp;start=20&amp;prev=/images%3Fq%3Dcasimir%2Beffect%26svnum%3D10%26hl%3Den%26lr%3D%26sa%3DG</a:t>
            </a:r>
            <a:endParaRPr b="1" lang="en-US" sz="6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743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Dist &gt; 25µm: dome shap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The Casimir force occurs when virtual photons are restricted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The force is reduced  where virtual photons are diffracted into the gap between the plate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Unshaded areas correspond to higher Casimir force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asimir force is decreased at the edges of the plates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0" t="0" r="23225" b="0"/>
          <a:stretch/>
        </p:blipFill>
        <p:spPr>
          <a:xfrm>
            <a:off x="3809880" y="1752480"/>
            <a:ext cx="2289240" cy="224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0" t="0" r="24936" b="0"/>
          <a:stretch/>
        </p:blipFill>
        <p:spPr>
          <a:xfrm>
            <a:off x="6095880" y="1676520"/>
            <a:ext cx="2424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1400"/>
            </a:br>
            <a:br>
              <a:rPr sz="4000"/>
            </a:br>
            <a:endParaRPr b="1" lang="en-US" sz="2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5105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rior experiments have focused on static 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and adhesion 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is experiment investigates the dynamic effect of 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A Hooke’s law spring provides the restoring forc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between a movable plate and a fixed sphere provides the anharmonic forc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or z&gt;d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CRITICAL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system is bistabl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E has a local + global minima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makes the shape of local min anharmonic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ote: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hosing a sphere as one of the surfaces avoids alignment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09880" cy="188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304920"/>
            <a:ext cx="799308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The Casimir force: F</a:t>
            </a:r>
            <a:r>
              <a:rPr b="1" lang="en-US" sz="3200" spc="-1" strike="noStrike" baseline="-25000">
                <a:solidFill>
                  <a:srgbClr val="2f09d1"/>
                </a:solidFill>
                <a:latin typeface="Times New Roman"/>
              </a:rPr>
              <a:t>C</a:t>
            </a:r>
            <a:br>
              <a:rPr sz="3200"/>
            </a:b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on Microelectromechanical systems (MEMS)</a:t>
            </a:r>
            <a:br>
              <a:rPr sz="3200"/>
            </a:br>
            <a:r>
              <a:rPr b="1" lang="en-US" sz="1200" spc="-1" strike="noStrike">
                <a:solidFill>
                  <a:srgbClr val="2f09d1"/>
                </a:solidFill>
                <a:latin typeface="Times New Roman"/>
              </a:rPr>
              <a:t>(PRL: H. B. Chan et al – Bell Lab &amp; Lucent Tech –Published Oct 2001)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4343400"/>
            <a:ext cx="2952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ock set up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K= 0.019 Nm-1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phere radius = 100</a:t>
            </a:r>
            <a:r>
              <a:rPr b="0" lang="el-GR" sz="1800" spc="-1" strike="noStrike">
                <a:solidFill>
                  <a:srgbClr val="0033cc"/>
                </a:solidFill>
                <a:latin typeface="Times New Roman"/>
              </a:rPr>
              <a:t>μ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33cc"/>
                </a:solidFill>
                <a:latin typeface="Times New Roman"/>
              </a:rPr>
              <a:t>EQUILIBRIUM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= 40n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638680" y="5867280"/>
                <a:ext cx="2743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The actual set up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scillator: 3.5-mm-thick, 500-mm</a:t>
            </a:r>
            <a:r>
              <a:rPr b="0" lang="en-US" sz="2000" spc="-1" strike="noStrike" baseline="30000">
                <a:solidFill>
                  <a:srgbClr val="0033cc"/>
                </a:solidFill>
                <a:latin typeface="Times New Roman"/>
              </a:rPr>
              <a:t>2,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gold plated (on top), polysilicon plat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Room temp – 1 milli Tor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A driving voltage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excites the torsional mode of oscillation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DC1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: bia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dc: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bias to one of the two electrodes under the plate to linearize the voltage dependence of the driving torque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DC2: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etection electrode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Note: amplitude increases with V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= 35.4</a:t>
            </a:r>
            <a:r>
              <a:rPr b="0" lang="el-GR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 to 72.5 </a:t>
            </a:r>
            <a:r>
              <a:rPr b="0" lang="el-GR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3063960" cy="181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16840" y="4572000"/>
            <a:ext cx="438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orsional Spring constant: k=2.1 10-8 Nrad-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und res. Freq. = 2753.47 Hz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I = 7.1 10-17 kgm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ystem behaves linearly w/o sp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09d1"/>
                </a:solidFill>
                <a:latin typeface="Times New Roman"/>
              </a:rPr>
              <a:t>Add a gold plated polystyrene sphere radius = 200</a:t>
            </a:r>
            <a:r>
              <a:rPr b="1" lang="el-GR" sz="2800" spc="-1" strike="noStrike">
                <a:solidFill>
                  <a:srgbClr val="2f09d1"/>
                </a:solidFill>
                <a:latin typeface="Times New Roman"/>
                <a:ea typeface="Times New Roman"/>
              </a:rPr>
              <a:t>μ</a:t>
            </a:r>
            <a:r>
              <a:rPr b="1" lang="en-US" sz="2800" spc="-1" strike="noStrike">
                <a:solidFill>
                  <a:srgbClr val="2f09d1"/>
                </a:solidFill>
                <a:latin typeface="Times New Roman"/>
                <a:ea typeface="Times New Roman"/>
              </a:rPr>
              <a:t>m</a:t>
            </a:r>
            <a:endParaRPr b="1" lang="en-US" sz="28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quation of motion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267080" y="1447920"/>
                <a:ext cx="4240440" cy="26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bθ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Tay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rPr>
                            <m:lit/>
                            <m:nor/>
                          </m:rPr>
                          <m:t xml:space="preserve">p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γ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ℏ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 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(</m:t>
                            </m:r>
                            <m:r>
                              <m:t xml:space="preserve">Δ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  <m:r>
                          <m:rPr>
                            <m:lit/>
                            <m:nor/>
                          </m:rPr>
                          <m:t xml:space="preserve">an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os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proach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mp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mplitu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riv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rque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996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520" y="4114800"/>
                <a:ext cx="29448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gnor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71240" y="3657600"/>
            <a:ext cx="29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eq shift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~ F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gradient (F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00400" y="4343400"/>
            <a:ext cx="5626440" cy="2174400"/>
            <a:chOff x="3200400" y="4343400"/>
            <a:chExt cx="5626440" cy="2174400"/>
          </a:xfrm>
        </p:grpSpPr>
        <p:grpSp>
          <p:nvGrpSpPr>
            <p:cNvPr id="182" name=""/>
            <p:cNvGrpSpPr/>
            <p:nvPr/>
          </p:nvGrpSpPr>
          <p:grpSpPr>
            <a:xfrm>
              <a:off x="3200400" y="4724280"/>
              <a:ext cx="5626440" cy="1793520"/>
              <a:chOff x="3200400" y="4724280"/>
              <a:chExt cx="5626440" cy="1793520"/>
            </a:xfrm>
          </p:grpSpPr>
          <p:sp>
            <p:nvSpPr>
              <p:cNvPr id="183" name=""/>
              <p:cNvSpPr/>
              <p:nvPr/>
            </p:nvSpPr>
            <p:spPr>
              <a:xfrm>
                <a:off x="6684480" y="5257440"/>
                <a:ext cx="214236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z </a:t>
                </a:r>
                <a:r>
                  <a:rPr b="1" lang="en-US" sz="1200" spc="-1" strike="noStrike">
                    <a:solidFill>
                      <a:srgbClr val="0033cc"/>
                    </a:solidFill>
                    <a:latin typeface="Times New Roman"/>
                  </a:rPr>
                  <a:t>(equil dist sph-plate w/o F</a:t>
                </a:r>
                <a:r>
                  <a:rPr b="1" lang="en-US" sz="1200" spc="-1" strike="noStrike" baseline="-25000">
                    <a:solidFill>
                      <a:srgbClr val="0033cc"/>
                    </a:solidFill>
                    <a:latin typeface="Times New Roman"/>
                  </a:rPr>
                  <a:t>C</a:t>
                </a:r>
                <a:r>
                  <a:rPr b="1" lang="en-US" sz="1200" spc="-1" strike="noStrike">
                    <a:solidFill>
                      <a:srgbClr val="0033cc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1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4724280"/>
                <a:ext cx="3429000" cy="179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6095880" y="5257440"/>
                <a:ext cx="6858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95880" y="5714640"/>
                <a:ext cx="6858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05720" y="5257440"/>
                <a:ext cx="0" cy="45684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872320" y="4343400"/>
              <a:ext cx="90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Due to F</a:t>
              </a:r>
              <a:r>
                <a:rPr b="1" lang="en-US" sz="1400" spc="-1" strike="noStrike" baseline="-25000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00600" y="4571640"/>
              <a:ext cx="990720" cy="304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181480" y="4952880"/>
              <a:ext cx="1524240" cy="75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03560" y="4876560"/>
              <a:ext cx="21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Due to Electrostatic force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2f09d1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2f09d1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 anharmonic behavior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07732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: Sphere far away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normal resonnanc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phere is moved closer to plate I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V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Res. freq shifts as per model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t close distance </a:t>
            </a: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hysteresis occur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e: amplitude A has up to 3 roots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486400" y="5410080"/>
                <a:ext cx="34923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κ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characteriz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earit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647960" cy="218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10080" y="4343400"/>
                <a:ext cx="196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8088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Or we can keep a constant excitation freq (2748Hz), vary sphere-plate distance, and measure amplitude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495680" cy="137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 flipV="1">
            <a:off x="2743200" y="2361960"/>
            <a:ext cx="533520" cy="6858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2514600"/>
            <a:ext cx="91440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7320" y="18669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eq &lt; resonant freq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0600" y="19051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eq &gt; resonant freq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648320" y="1676520"/>
            <a:ext cx="0" cy="12189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2000" y="11430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epends on history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9d1"/>
                </a:solidFill>
                <a:latin typeface="Times New Roman"/>
              </a:rPr>
              <a:t>Is repulsive Casimir force physical ?</a:t>
            </a:r>
            <a:endParaRPr b="1" lang="en-US" sz="40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late-plate: att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phere-plate: att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ave surface – concave surface: can be repulsive or attractive depending on separation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pendulum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late-plate with specific dielectric properties can be repulsive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nanotech application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References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onlinear Micromechanical Casimir Oscillator [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RL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ublished 31 October 2001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. B. Chan,* V. A. Aksyuk, R. N. Kleiman, D. J. Bishop, and Federico Capasso†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Bell Laboratories, Lucent Technologies, Murray Hill, New Jersey 0797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Physics World article (Sept 2002) – Author:Astrid Lambrecht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REPORTS ON PROGRESS IN PHYSIC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Rep. Prog. Phys.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8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2005) 201–236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teven Lamoreaux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9d1"/>
                </a:solidFill>
                <a:latin typeface="Times New Roman"/>
              </a:rPr>
              <a:t>Abstract</a:t>
            </a:r>
            <a:br>
              <a:rPr sz="4000"/>
            </a:b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The Casimir Force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e Casimir Force was first predicted by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utch theoretical physicist Hendrik Casimir and was first effectively measured by Steve Lamoreaux in 1995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e boundary conditions imposed on the electromagnetic fields by metallic surfaces lead to a spatial redistribution of the zero-point energy mode density with respect to free space, creating a spatial gradient of the zero-point energy density and hence a net force between the metals.   That force is the most significant force between neutral objects for distances &lt;100n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Because of that dependence on boundary conditions, the Casimir Force spatial dependence and sign can be controlled by tailoring the shape of the interacting surfaces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In this presentation I briefly review the formalism pertaining to the zero point energy and summarize the recent experiment By Bell and Lucent labs, investigating the effect of the Casimir Force on a dynamic system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Origin of the Casimir force</a:t>
            </a:r>
            <a:br>
              <a:rPr sz="4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he short answer</a:t>
            </a:r>
            <a:endParaRPr b="1" lang="en-US" sz="2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vacuum cannot have absolute zero energ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at would violat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isenberg uncertainty principle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9" name="" descr="Virtual particles pop into existance and then back into the vacuum"/>
          <p:cNvPicPr/>
          <p:nvPr/>
        </p:nvPicPr>
        <p:blipFill>
          <a:blip r:embed="rId1"/>
          <a:srcRect l="35179" t="45426" r="35179" b="35205"/>
          <a:stretch/>
        </p:blipFill>
        <p:spPr>
          <a:xfrm>
            <a:off x="3124080" y="4495680"/>
            <a:ext cx="19908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09d1"/>
                </a:solidFill>
                <a:latin typeface="Times New Roman"/>
              </a:rPr>
              <a:t>The long answer </a:t>
            </a:r>
            <a:r>
              <a:rPr b="1" lang="en-US" sz="2000" spc="-1" strike="noStrike">
                <a:solidFill>
                  <a:srgbClr val="2f09d1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2f09d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“green” book approach</a:t>
            </a:r>
            <a:endParaRPr b="1" lang="en-US" sz="28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e show a 1-1 relationship:  SHO ↔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E&amp;M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Field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axwell + Coulomb gauge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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.A=0)</a:t>
            </a:r>
            <a:r>
              <a:rPr b="0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no local current/charge)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eneral sol to wave equation </a:t>
            </a:r>
            <a:r>
              <a:rPr b="0" lang="en-US" sz="1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410080" y="2286000"/>
                <a:ext cx="2438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62520" y="3505320"/>
                <a:ext cx="51814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V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Ο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Ο</m:t>
                                </m:r>
                              </m:e>
                              <m:sup/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V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p/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30080" y="5257800"/>
                <a:ext cx="8413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ubstitute</m:t>
                        </m:r>
                      </m:e>
                    </m:acc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Consider the SHO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e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n there is a 1-1 relation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f we set </a:t>
            </a:r>
            <a:r>
              <a:rPr b="0" lang="el-GR" sz="2400" spc="-1" strike="noStrike">
                <a:solidFill>
                  <a:srgbClr val="0033cc"/>
                </a:solidFill>
                <a:latin typeface="Times New Roman"/>
              </a:rPr>
              <a:t>α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o be such th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n, per mode </a:t>
            </a:r>
            <a:r>
              <a:rPr b="0" lang="el-GR" sz="2400" spc="-1" strike="noStrike">
                <a:solidFill>
                  <a:srgbClr val="0033cc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we have: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7200" y="1523880"/>
                <a:ext cx="85345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cal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ω</m:t>
                            </m:r>
                          </m:e>
                        </m:rad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mω</m:t>
                                </m:r>
                              </m:e>
                            </m:rad>
                          </m:den>
                        </m:f>
                        <m:r>
                          <m:t xml:space="preserve">Q</m:t>
                        </m:r>
                      </m:e>
                    </m:acc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7400" y="275112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ω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hen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05520" y="3429000"/>
                <a:ext cx="1960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05520" y="4419720"/>
                <a:ext cx="2590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π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(</m:t>
                        </m:r>
                      </m:e>
                    </m:rad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876920" y="5410080"/>
                <a:ext cx="24382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∧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09d1"/>
                </a:solidFill>
                <a:latin typeface="Times New Roman"/>
              </a:rPr>
              <a:t>We can then apply the SHO mechanics to the E&amp;M field</a:t>
            </a:r>
            <a:endParaRPr b="1" lang="en-US" sz="36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igenstates |n&gt;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igenvalues E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= ħ</a:t>
            </a:r>
            <a:r>
              <a:rPr b="0" lang="el-GR" sz="2800" spc="-1" strike="noStrike">
                <a:solidFill>
                  <a:srgbClr val="0033cc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n+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n particular E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= ħ</a:t>
            </a:r>
            <a:r>
              <a:rPr b="0" lang="el-GR" sz="2800" spc="-1" strike="noStrike">
                <a:solidFill>
                  <a:srgbClr val="0033cc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/2 ≠ 0 for mode </a:t>
            </a:r>
            <a:r>
              <a:rPr b="0" lang="el-GR" sz="2800" spc="-1" strike="noStrike">
                <a:solidFill>
                  <a:srgbClr val="0033cc"/>
                </a:solidFill>
                <a:latin typeface="Times New Roman"/>
              </a:rPr>
              <a:t>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43200" y="4118040"/>
                <a:ext cx="25146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ℏ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9d1"/>
                </a:solidFill>
                <a:latin typeface="Times New Roman"/>
              </a:rPr>
              <a:t>But we are only concerned in the difference in energy density</a:t>
            </a:r>
            <a:endParaRPr b="1" lang="en-US" sz="40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242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etween two conducting parallel plates only virtual photons whose wavelengths fit a whole number of times between the plates contribute to the vacuum energy </a:t>
            </a:r>
            <a:r>
              <a:rPr b="0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there is a force drawing the plates together.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7760" y="1599840"/>
            <a:ext cx="3279600" cy="218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Photo"/>
          <p:cNvPicPr/>
          <p:nvPr/>
        </p:nvPicPr>
        <p:blipFill>
          <a:blip r:embed="rId2"/>
          <a:stretch/>
        </p:blipFill>
        <p:spPr>
          <a:xfrm>
            <a:off x="5410080" y="1752480"/>
            <a:ext cx="285768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66680" y="4281480"/>
                <a:ext cx="6858000" cy="21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N or Pressure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scal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nm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Pressure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c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atm</m:t>
                        </m:r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Strongest force between two neutral objects 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n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09d1"/>
                </a:solidFill>
                <a:latin typeface="Times New Roman"/>
              </a:rPr>
              <a:t>Notes</a:t>
            </a:r>
            <a:endParaRPr b="1" lang="en-US" sz="44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osons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ttractive Casimir forc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ermions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repulsive Casimir forc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With supersymmetry there is a fermion for each Boson </a:t>
            </a:r>
            <a:r>
              <a:rPr b="0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no Casimir effec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nce if supersymmetry exists it must be a broken symmet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Casimir Force</a:t>
            </a:r>
            <a:br>
              <a:rPr sz="3200"/>
            </a:br>
            <a:r>
              <a:rPr b="1" lang="en-US" sz="3200" spc="-1" strike="noStrike">
                <a:solidFill>
                  <a:srgbClr val="2f09d1"/>
                </a:solidFill>
                <a:latin typeface="Times New Roman"/>
              </a:rPr>
              <a:t>From theory to experiment</a:t>
            </a:r>
            <a:endParaRPr b="1" lang="en-US" sz="3200" spc="-1" strike="noStrike">
              <a:solidFill>
                <a:srgbClr val="2f09d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redicted by Dutch physicist Hendrick Casimir in 1948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irst attempt to measure the Casimir Force: 1958 by M.J.Sparnaa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 Used the attraction between a pair of parallel plates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 But irreducible systematic errors 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measurements had a 100% uncertainty, (but it fit the expectation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Sparnaay gave three guidelines;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The plates should be free of any dust or debris, with as little surface roughness as possible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Static electrical charges should be removed (electrostatic force can easily swamp the weak Casimir attraction).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The plates should not have different surface potentials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 Ref: "Measurements of Attractive Forces Between Flat Plates“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(Sparnaay, 1958) Physica, </a:t>
            </a:r>
            <a:r>
              <a:rPr b="1" i="1" lang="en-US" sz="1400" spc="-1" strike="noStrike">
                <a:solidFill>
                  <a:srgbClr val="0033cc"/>
                </a:solidFill>
                <a:latin typeface="Times New Roman"/>
              </a:rPr>
              <a:t>24</a:t>
            </a:r>
            <a:r>
              <a:rPr b="0" i="1" lang="en-US" sz="1400" spc="-1" strike="noStrike">
                <a:solidFill>
                  <a:srgbClr val="0033cc"/>
                </a:solidFill>
                <a:latin typeface="Times New Roman"/>
              </a:rPr>
              <a:t> 751-764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2nd attempt and first successful results: 1996 by Steven Lamoreaux: - In agreement with theory to within uncertainty of 5%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veral other successful experiments since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3:56:59Z</dcterms:created>
  <dc:creator>Maerick</dc:creator>
  <dc:description/>
  <dc:language>en-US</dc:language>
  <cp:lastModifiedBy>Maerick</cp:lastModifiedBy>
  <dcterms:modified xsi:type="dcterms:W3CDTF">2006-05-10T03:39:51Z</dcterms:modified>
  <cp:revision>35</cp:revision>
  <dc:subject/>
  <dc:title>The Casimir effect</dc:title>
</cp:coreProperties>
</file>