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562-D5DF-445B-B460-FE5DAB50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5CB-0F70-4285-804E-985623C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831-FD44-412D-854C-AE78542A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BFD-8644-49F6-B1A8-FBCB5BE4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C52-BC34-45D4-A0BB-EC73D79F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7E52-0DFF-4C8F-9677-ECE01032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95B-42E3-4C5C-914F-01A8A4B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DDD9-92FF-4847-B9AB-727E5E2C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3E68-5FEF-47B4-AF3C-0A03A61E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83A7-7C15-41B6-A881-22BB788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871-ED25-4A97-BFDD-1AE1A90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5CA-6716-4F37-9DAA-E6FAC2D1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9958-301C-4F28-8E22-6E58BA0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0576-7EA0-43C7-98B5-DB7BD28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A95-4E5D-4EC5-B2FB-3EDE3B5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371-D5EB-4513-BD12-63B6BA41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0605-323C-4FF8-8A92-97C7697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8AF-80EC-43D3-90E8-85EB277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B84-3AEE-4869-AF8D-DBAD8017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F39-7460-4AF4-B72A-3DF3AE4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35A-0EBE-4B52-8E0C-FDE486B0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E69-5FAB-4EDD-9345-00B0536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DEC-4FD9-4BAD-B1CF-9F16E95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CCF-4FDE-479C-920A-863CAE9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f09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F78-1519-4961-8ADE-4786BFEFF53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09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EA91-6222-440F-A7BF-9D945E8572AD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The Casimir effect</a:t>
            </a:r>
            <a:br>
              <a:rPr sz="48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Physics 250 Spring 2006</a:t>
            </a:r>
            <a:br>
              <a:rPr sz="48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r Budker</a:t>
            </a:r>
            <a:br>
              <a:rPr sz="2000"/>
            </a:b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Eric Corsini</a:t>
            </a:r>
            <a:br>
              <a:rPr sz="2000"/>
            </a:br>
            <a:endParaRPr b="1" lang="en-US" sz="1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 Black"/>
              </a:rPr>
              <a:t>Casimi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 Black"/>
              </a:rPr>
              <a:t>Patron Saint of Poland and Lithuania 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(March 4</a:t>
            </a:r>
            <a:r>
              <a:rPr b="0" lang="en-US" sz="1400" spc="-1" strike="noStrike" baseline="30000">
                <a:solidFill>
                  <a:srgbClr val="0033cc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2" name="" descr="slide number 027"/>
          <p:cNvPicPr/>
          <p:nvPr/>
        </p:nvPicPr>
        <p:blipFill>
          <a:blip r:embed="rId1"/>
          <a:srcRect l="60005" t="27555" r="3333" b="26666"/>
          <a:stretch/>
        </p:blipFill>
        <p:spPr>
          <a:xfrm>
            <a:off x="5486400" y="3962520"/>
            <a:ext cx="2514600" cy="2278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3520" y="3962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Hendrik Casimir (1909-2000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Dutch theoretical physicis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Predicted the “force from nowhere” in 1948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2171880" cy="2648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1240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eve Lamoreaux (University of Washington – Seattle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easured the Casimir force between a 4 cm diameter spherical lens and an optical quartz plate about 2.5 cm across, both coated with copper and gold. The lens and plate were connected to a torsion pendulum.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2982960" cy="4695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8108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even Lamoreaux’ experimental set u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ere are only a few dozen published experimental measurements of the Casimir forc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ut there are more than 1000 theoretical paper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citations of Casimir’s 1948 paper are growing exponentiall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029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4076" t="11613" r="2717" b="0"/>
          <a:stretch/>
        </p:blipFill>
        <p:spPr>
          <a:xfrm>
            <a:off x="3962520" y="4114800"/>
            <a:ext cx="47037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Effects of edges</a:t>
            </a:r>
            <a:br>
              <a:rPr sz="4400"/>
            </a:br>
            <a:r>
              <a:rPr b="1" lang="en-US" sz="1800" spc="-1" strike="noStrike">
                <a:solidFill>
                  <a:srgbClr val="2f09d1"/>
                </a:solidFill>
                <a:latin typeface="Times New Roman"/>
              </a:rPr>
              <a:t>shape of decay function is strongly dependent on size and separation of surfaces</a:t>
            </a:r>
            <a:br>
              <a:rPr sz="1800"/>
            </a:br>
            <a:r>
              <a:rPr b="1" lang="en-US" sz="600" spc="-1" strike="noStrike">
                <a:solidFill>
                  <a:srgbClr val="2f09d1"/>
                </a:solidFill>
                <a:latin typeface="Times New Roman"/>
              </a:rPr>
              <a:t>ref:http://images.google.com/imgres?imgurl=http://www.sr.bham.ac.uk/yr4pasr/project/casimir/currentthumb.jpg&amp;imgrefurl=http://www.sr.bham.ac.uk/yr4pasr/project/casimir/&amp;h=275&amp;w=275&amp;sz=41&amp;tbnid=Buy2QDUNZEvi6M:&amp;tbnh=109&amp;tbnw=109&amp;hl=en&amp;start=20&amp;prev=/images%3Fq%3Dcasimir%2Beffect%26svnum%3D10%26hl%3Den%26lr%3D%26sa%3DG</a:t>
            </a:r>
            <a:endParaRPr b="1" lang="en-US" sz="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743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Dist &gt; 25µm: dome shap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he Casimir force occurs when virtual photons are restricted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he force is reduced  where virtual photons are diffracted into the gap between the plat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Unshaded areas correspond to higher Casimir forc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asimir force is decreased at the edges of the plates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23225" b="0"/>
          <a:stretch/>
        </p:blipFill>
        <p:spPr>
          <a:xfrm>
            <a:off x="3809880" y="1752480"/>
            <a:ext cx="2289240" cy="224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0" r="24936" b="0"/>
          <a:stretch/>
        </p:blipFill>
        <p:spPr>
          <a:xfrm>
            <a:off x="6095880" y="1676520"/>
            <a:ext cx="2424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1400"/>
            </a:br>
            <a:br>
              <a:rPr sz="4000"/>
            </a:br>
            <a:endParaRPr b="1" lang="en-US" sz="2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5105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rior experiments have focused on static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and adhesion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is experiment investigates the dynamic effect of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A Hooke’s law spring provides the restoring forc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between a movable plate and a fixed sphere provides the anharmonic forc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or z&gt;d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CRITICAL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system is bistabl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E has a local + global minima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makes the shape of local min anharmonic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ote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hosing a sphere as one of the surfaces avoids alignment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09880" cy="188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304920"/>
            <a:ext cx="799308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The Casimir force: F</a:t>
            </a:r>
            <a:r>
              <a:rPr b="1" lang="en-US" sz="3200" spc="-1" strike="noStrike" baseline="-25000">
                <a:solidFill>
                  <a:srgbClr val="2f09d1"/>
                </a:solidFill>
                <a:latin typeface="Times New Roman"/>
              </a:rPr>
              <a:t>C</a:t>
            </a:r>
            <a:br>
              <a:rPr sz="3200"/>
            </a:b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on Microelectromechanical systems (MEMS)</a:t>
            </a:r>
            <a:br>
              <a:rPr sz="3200"/>
            </a:br>
            <a:r>
              <a:rPr b="1" lang="en-US" sz="1200" spc="-1" strike="noStrike">
                <a:solidFill>
                  <a:srgbClr val="2f09d1"/>
                </a:solidFill>
                <a:latin typeface="Times New Roman"/>
              </a:rPr>
              <a:t>(PRL: H. B. Chan et al – Bell Lab &amp; Lucent Tech –Published Oct 2001)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4343400"/>
            <a:ext cx="295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ock set up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K= 0.019 Nm-1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phere radius = 100</a:t>
            </a:r>
            <a:r>
              <a:rPr b="0" lang="el-GR" sz="1800" spc="-1" strike="noStrike">
                <a:solidFill>
                  <a:srgbClr val="0033cc"/>
                </a:solidFill>
                <a:latin typeface="Times New Roman"/>
              </a:rPr>
              <a:t>μ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Times New Roman"/>
              </a:rPr>
              <a:t>EQUILIBRIUM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= 40n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638680" y="5867280"/>
                <a:ext cx="2743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The actual set up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scillator: 3.5-mm-thick, 500-mm</a:t>
            </a:r>
            <a:r>
              <a:rPr b="0" lang="en-US" sz="2000" spc="-1" strike="noStrike" baseline="30000">
                <a:solidFill>
                  <a:srgbClr val="0033cc"/>
                </a:solidFill>
                <a:latin typeface="Times New Roman"/>
              </a:rPr>
              <a:t>2,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gold plated (on top), polysilicon plat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Room temp – 1 milli Tor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A driving voltage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excites the torsional mode of oscillation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1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: bia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ias to one of the two electrodes under the plate to linearize the voltage dependence of the driving torque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2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tection electrode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Note: amplitude increases with 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= 35.4</a:t>
            </a:r>
            <a:r>
              <a:rPr b="0" lang="el-GR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 to 72.5 </a:t>
            </a:r>
            <a:r>
              <a:rPr b="0" lang="el-GR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3063960" cy="181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16840" y="4572000"/>
            <a:ext cx="438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orsional Spring constant: k=2.1 10-8 Nrad-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und res. Freq. = 2753.47 Hz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I = 7.1 10-17 kgm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ystem behaves linearly w/o sp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09d1"/>
                </a:solidFill>
                <a:latin typeface="Times New Roman"/>
              </a:rPr>
              <a:t>Add a gold plated polystyrene sphere radius = 200</a:t>
            </a:r>
            <a:r>
              <a:rPr b="1" lang="el-GR" sz="2800" spc="-1" strike="noStrike">
                <a:solidFill>
                  <a:srgbClr val="2f09d1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2f09d1"/>
                </a:solidFill>
                <a:latin typeface="Times New Roman"/>
                <a:ea typeface="Times New Roman"/>
              </a:rPr>
              <a:t>m</a:t>
            </a:r>
            <a:endParaRPr b="1" lang="en-US" sz="28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quation of motion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267080" y="1447920"/>
                <a:ext cx="4240440" cy="26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bθ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Tay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rPr>
                            <m:lit/>
                            <m:nor/>
                          </m:rPr>
                          <m:t xml:space="preserve">p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γ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ℏ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 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(</m:t>
                            </m:r>
                            <m:r>
                              <m:t xml:space="preserve">Δ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  <m:r>
                          <m:rPr>
                            <m:lit/>
                            <m:nor/>
                          </m:rPr>
                          <m:t xml:space="preserve">an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os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proach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mplitu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riv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rque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996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520" y="4114800"/>
                <a:ext cx="29448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nor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71240" y="3657600"/>
            <a:ext cx="29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shift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~ F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gradient (F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00400" y="4343400"/>
            <a:ext cx="5626440" cy="2174400"/>
            <a:chOff x="3200400" y="4343400"/>
            <a:chExt cx="5626440" cy="2174400"/>
          </a:xfrm>
        </p:grpSpPr>
        <p:grpSp>
          <p:nvGrpSpPr>
            <p:cNvPr id="182" name=""/>
            <p:cNvGrpSpPr/>
            <p:nvPr/>
          </p:nvGrpSpPr>
          <p:grpSpPr>
            <a:xfrm>
              <a:off x="3200400" y="4724280"/>
              <a:ext cx="5626440" cy="1793520"/>
              <a:chOff x="3200400" y="4724280"/>
              <a:chExt cx="5626440" cy="1793520"/>
            </a:xfrm>
          </p:grpSpPr>
          <p:sp>
            <p:nvSpPr>
              <p:cNvPr id="183" name=""/>
              <p:cNvSpPr/>
              <p:nvPr/>
            </p:nvSpPr>
            <p:spPr>
              <a:xfrm>
                <a:off x="6684480" y="5257440"/>
                <a:ext cx="21423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z </a:t>
                </a: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(equil dist sph-plate w/o F</a:t>
                </a:r>
                <a:r>
                  <a:rPr b="1" lang="en-US" sz="1200" spc="-1" strike="noStrike" baseline="-25000">
                    <a:solidFill>
                      <a:srgbClr val="0033cc"/>
                    </a:solidFill>
                    <a:latin typeface="Times New Roman"/>
                  </a:rPr>
                  <a:t>C</a:t>
                </a: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1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4724280"/>
                <a:ext cx="3429000" cy="179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6095880" y="5257440"/>
                <a:ext cx="6858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95880" y="5714640"/>
                <a:ext cx="6858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5720" y="5257440"/>
                <a:ext cx="0" cy="45684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872320" y="4343400"/>
              <a:ext cx="90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Due to F</a:t>
              </a:r>
              <a:r>
                <a:rPr b="1" lang="en-US" sz="1400" spc="-1" strike="noStrike" baseline="-25000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00600" y="4571640"/>
              <a:ext cx="990720" cy="304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181480" y="4952880"/>
              <a:ext cx="1524240" cy="75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3560" y="4876560"/>
              <a:ext cx="21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Due to Electrostatic force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2f09d1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2f09d1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 anharmonic behavior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07732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: Sphere far away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normal resonnanc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phere is moved closer to plate I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V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s. freq shifts as per model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t close distance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hysteresis occur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e: amplitude A has up to 3 roots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86400" y="5410080"/>
                <a:ext cx="34923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κ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characteriz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earit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647960" cy="218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10080" y="4343400"/>
                <a:ext cx="196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Or we can keep a constant excitation freq (2748Hz), vary sphere-plate distance, and measure amplitude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495680" cy="137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2743200" y="2361960"/>
            <a:ext cx="533520" cy="6858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2514600"/>
            <a:ext cx="91440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7320" y="18669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&lt; resonant freq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0600" y="19051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&gt; resonant freq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648320" y="1676520"/>
            <a:ext cx="0" cy="12189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2000" y="11430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epends on history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Is repulsive Casimir force physical ?</a:t>
            </a:r>
            <a:endParaRPr b="1" lang="en-US" sz="40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late-plate: att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phere-plate: att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ave surface – concave surface: can be repulsive or attractive depending on separation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pendulum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late-plate with specific dielectric properties can be repulsive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nanotech application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onlinear Micromechanical Casimir Oscillator [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RL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ublished 31 October 2001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. B. Chan,* V. A. Aksyuk, R. N. Kleiman, D. J. Bishop, and Federico Capasso†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Bell Laboratories, Lucent Technologies, Murray Hill, New Jersey 0797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Physics World article (Sept 2002) – Author:Astrid Lambrecht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PORTS ON PROGRESS IN PHYSIC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p. Prog. Phys.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8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2005) 201–236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teven Lamoreaux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Abstract</a:t>
            </a:r>
            <a:br>
              <a:rPr sz="4000"/>
            </a:b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The Casimir Force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 Casimir Force was first predicted by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utch theoretical physicist Hendrik Casimir and was first effectively measured by Steve Lamoreaux in 1995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 boundary conditions imposed on the electromagnetic fields by metallic surfaces lead to a spatial redistribution of the zero-point energy mode density with respect to free space, creating a spatial gradient of the zero-point energy density and hence a net force between the metals.   That force is the most significant force between neutral objects for distances &lt;100n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ecause of that dependence on boundary conditions, the Casimir Force spatial dependence and sign can be controlled by tailoring the shape of the interacting surfaces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In this presentation I briefly review the formalism pertaining to the zero point energy and summarize the recent experiment By Bell and Lucent labs, investigating the effect of the Casimir Force on a dynamic system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Origin of the Casimir force</a:t>
            </a:r>
            <a:br>
              <a:rPr sz="4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he short answer</a:t>
            </a:r>
            <a:endParaRPr b="1" lang="en-US" sz="2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vacuum cannot have absolute zero energ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at would violat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isenberg uncertainty principle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9" name="" descr="Virtual particles pop into existance and then back into the vacuum"/>
          <p:cNvPicPr/>
          <p:nvPr/>
        </p:nvPicPr>
        <p:blipFill>
          <a:blip r:embed="rId1"/>
          <a:srcRect l="35179" t="45426" r="35179" b="35205"/>
          <a:stretch/>
        </p:blipFill>
        <p:spPr>
          <a:xfrm>
            <a:off x="3124080" y="4495680"/>
            <a:ext cx="19908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09d1"/>
                </a:solidFill>
                <a:latin typeface="Times New Roman"/>
              </a:rPr>
              <a:t>The long answer </a:t>
            </a:r>
            <a:r>
              <a:rPr b="1" lang="en-US" sz="2000" spc="-1" strike="noStrike">
                <a:solidFill>
                  <a:srgbClr val="2f09d1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2f09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“green” book approach</a:t>
            </a:r>
            <a:endParaRPr b="1" lang="en-US" sz="28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e show a 1-1 relationship:  SHO ↔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E&amp;M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Fiel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axwell + Coulomb gauge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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.A=0)</a:t>
            </a: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no local current/charge)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eneral sol to wave equation </a:t>
            </a:r>
            <a:r>
              <a:rPr b="0" lang="en-US" sz="1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410080" y="2286000"/>
                <a:ext cx="2438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62520" y="3505320"/>
                <a:ext cx="51814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V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Ο</m:t>
                                </m:r>
                              </m:e>
                              <m:sup/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V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p/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30080" y="5257800"/>
                <a:ext cx="8413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ubstitute</m:t>
                        </m:r>
                      </m:e>
                    </m:acc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Consider the SHO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n there is a 1-1 relation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f we set </a:t>
            </a:r>
            <a:r>
              <a:rPr b="0" lang="el-GR" sz="2400" spc="-1" strike="noStrike">
                <a:solidFill>
                  <a:srgbClr val="0033cc"/>
                </a:solidFill>
                <a:latin typeface="Times New Roman"/>
              </a:rPr>
              <a:t>α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o be such th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n, per mode </a:t>
            </a:r>
            <a:r>
              <a:rPr b="0" lang="el-GR" sz="24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we have: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7200" y="1523880"/>
                <a:ext cx="85345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cal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ω</m:t>
                            </m:r>
                          </m:e>
                        </m:rad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mω</m:t>
                                </m:r>
                              </m:e>
                            </m:rad>
                          </m:den>
                        </m:f>
                        <m:r>
                          <m:t xml:space="preserve">Q</m:t>
                        </m:r>
                      </m:e>
                    </m:acc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7400" y="275112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ω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hen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05520" y="3429000"/>
                <a:ext cx="1960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05520" y="4419720"/>
                <a:ext cx="2590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π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(</m:t>
                        </m:r>
                      </m:e>
                    </m:rad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876920" y="5410080"/>
                <a:ext cx="24382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∧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09d1"/>
                </a:solidFill>
                <a:latin typeface="Times New Roman"/>
              </a:rPr>
              <a:t>We can then apply the SHO mechanics to the E&amp;M field</a:t>
            </a:r>
            <a:endParaRPr b="1" lang="en-US" sz="3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igenstates |n&gt;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igenvalues E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= ħ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n+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n particular E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= ħ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/2 ≠ 0 for mode 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43200" y="4118040"/>
                <a:ext cx="25146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ℏ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But we are only concerned in the difference in energy density</a:t>
            </a:r>
            <a:endParaRPr b="1" lang="en-US" sz="40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etween two conducting parallel plates only virtual photons whose wavelengths fit a whole number of times between the plates contribute to the vacuum energy </a:t>
            </a: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there is a force drawing the plates together.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7760" y="1599840"/>
            <a:ext cx="3279600" cy="218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Photo"/>
          <p:cNvPicPr/>
          <p:nvPr/>
        </p:nvPicPr>
        <p:blipFill>
          <a:blip r:embed="rId2"/>
          <a:stretch/>
        </p:blipFill>
        <p:spPr>
          <a:xfrm>
            <a:off x="5410080" y="1752480"/>
            <a:ext cx="285768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66680" y="4281480"/>
                <a:ext cx="6858000" cy="21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N or Pressure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scal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nm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Pressure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c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atm</m:t>
                        </m:r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Strongest force between two neutral objects 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n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Notes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osons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ttractive Casimir forc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ermions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repulsive Casimir forc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With supersymmetry there is a fermion for each Boson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no Casimir effec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nce if supersymmetry exists it must be a broken symmet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Casimir Force</a:t>
            </a:r>
            <a:br>
              <a:rPr sz="3200"/>
            </a:b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From theory to experiment</a:t>
            </a:r>
            <a:endParaRPr b="1" lang="en-US" sz="32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redicted by Dutch physicist Hendrick Casimir in 1948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irst attempt to measure the Casimir Force: 1958 by M.J.Sparnaa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 Used the attraction between a pair of parallel plates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 But irreducible systematic errors 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measurements had a 100% uncertainty, (but it fit the expectation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Sparnaay gave three guidelines;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The plates should be free of any dust or debris, with as little surface roughness as possibl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Static electrical charges should be removed (electrostatic force can easily swamp the weak Casimir attraction).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The plates should not have different surface potentials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Ref: "Measurements of Attractive Forces Between Flat Plates“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(Sparnaay, 1958) Physica, </a:t>
            </a:r>
            <a:r>
              <a:rPr b="1" i="1" lang="en-US" sz="14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0" i="1" lang="en-US" sz="1400" spc="-1" strike="noStrike">
                <a:solidFill>
                  <a:srgbClr val="0033cc"/>
                </a:solidFill>
                <a:latin typeface="Times New Roman"/>
              </a:rPr>
              <a:t> 751-764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2nd attempt and first successful results: 1996 by Steven Lamoreaux: - In agreement with theory to within uncertainty of 5%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veral other successful experiments since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3:56:59Z</dcterms:created>
  <dc:creator>Maerick</dc:creator>
  <dc:description/>
  <dc:language>en-US</dc:language>
  <cp:lastModifiedBy>Maerick</cp:lastModifiedBy>
  <dcterms:modified xsi:type="dcterms:W3CDTF">2006-05-10T03:39:51Z</dcterms:modified>
  <cp:revision>35</cp:revision>
  <dc:subject/>
  <dc:title>The Casimir effect</dc:title>
</cp:coreProperties>
</file>